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BF6-A34B-41FF-80C9-6FD1A76B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22C-4DC9-4371-AA7A-BFB93D9E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52F-E922-4DF2-979F-109ACA17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630-E250-4233-B8A1-32F9392A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7D3-A44D-42DC-AB7A-729A1565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77E-DCF1-474D-A476-FE84C1D9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DF9-072C-438A-A5B5-E25BA02E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222-B244-4731-B0F4-E0135DF7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424-A722-4FDB-BDAB-B8358259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17B-721C-431D-92FF-B1329121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677-97EC-47B6-AA32-A248B171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AD9-5F90-482E-A5C9-AC92A65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EBE9-BCDD-4FFB-A603-CD22127DC8C3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Falcon development cos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/05/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development cos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alcon is a class 2 devic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RD Cost is 17 % below Class 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Overall Cost is 15 % below Class 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Conclusion: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Adjustment ST tbd. according request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Significant reduction of development cost must include reduction of feature changes compared to Kestrel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HW Changes compared to Kestre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New HW Featur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3,2Mpix 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display with lager main and sub pan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2nd speaker and stereo sou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FM 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Involving Chang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antenna design, incl. BT antenn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position of IO connector and vib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ange of FPC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ange of PCB, incl. new layout and routing of BB and RF (Design and layout changes + DTC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F conducted and RF radiated behavior (incl. BT) will chan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Conclusion: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a0e66"/>
                </a:solidFill>
                <a:latin typeface="Minion"/>
              </a:rPr>
              <a:t>Falcon is at least a class II devic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SW Changes compared to Kestre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New SW Featur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Stereo Concept (ASP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M Radio also on outer display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ture Chang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river adaptations for 3,2 Mpix camera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river adaptations for new display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MMI changes for came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General: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Ongoing bug fixing in all areas (esp. after operator request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per Li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8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compared to Class 2 [€]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990720"/>
          <a:ext cx="8305560" cy="532080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383840"/>
                <a:gridCol w="1384200"/>
                <a:gridCol w="1384200"/>
                <a:gridCol w="138456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lc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131.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517.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87.5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265.5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.601.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las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470.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438.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069.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562.7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.540.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38.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9.4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81.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97.2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938.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1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compared to Class 2 [€]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990720"/>
          <a:ext cx="8305920" cy="532116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278000"/>
                <a:gridCol w="1368360"/>
                <a:gridCol w="1368360"/>
                <a:gridCol w="152244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C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erv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lc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.601.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86.9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664.9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.151.9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.753.8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las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.540.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43.5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890.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.433.7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.973.8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938.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56.6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25.1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81.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.219.9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ST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8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SWM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2T06:27:24Z</dcterms:modified>
  <cp:revision>139</cp:revision>
  <dc:subject/>
  <dc:title>PowerPoint 簡報</dc:title>
</cp:coreProperties>
</file>